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63ED-8759-4D95-9B7D-FF06127D3958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7DEE-B56C-4044-B525-C8FECEAEDD9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D5FA-A50F-451E-9BDD-90A2420D757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D054-2917-4521-B9DE-0EC595E6AF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996E-D598-4493-99F5-619AC3E9CA3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9039-0A4A-442A-BE0F-5894319E8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0C37-C2AE-45E1-A029-2BDA1B1A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934A-A3ED-4525-AE46-C8E246B12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4171-2C66-4643-B818-9FE966E53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CB93-79F4-4B6C-B8EB-273279DF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8ED1-E2F6-4D34-864B-77A32DA0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8DCE-9513-4348-8554-3907746C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516B-A021-41C1-B231-CB300B33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4F59-C5B8-4385-ADFB-1C2308F8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570B-FDB9-4490-A9F1-63F4B703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3DE8-F360-49A8-BC1F-B2C82E0A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262C-639D-40E7-802A-67A41AB1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A5D7-3BE6-4393-BB2A-8F5ACF77893F}" type="slidenum">
              <a:rPr b="0" lang="en-N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601200" cy="7086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MVC-005F"/>
          <p:cNvPicPr/>
          <p:nvPr/>
        </p:nvPicPr>
        <p:blipFill>
          <a:blip r:embed="rId1"/>
          <a:stretch/>
        </p:blipFill>
        <p:spPr>
          <a:xfrm>
            <a:off x="1752480" y="838080"/>
            <a:ext cx="6248520" cy="4800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2438280" y="5943600"/>
            <a:ext cx="48769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Unicode MS"/>
              </a:rPr>
              <a:t>Yellow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MVC-006S"/>
          <p:cNvPicPr/>
          <p:nvPr/>
        </p:nvPicPr>
        <p:blipFill>
          <a:blip r:embed="rId2">
            <a:lum bright="10000"/>
          </a:blip>
          <a:srcRect l="17504" t="8331" r="12502" b="10000"/>
          <a:stretch/>
        </p:blipFill>
        <p:spPr>
          <a:xfrm>
            <a:off x="1752480" y="838080"/>
            <a:ext cx="6248520" cy="478476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6"/>
          <p:cNvSpPr/>
          <p:nvPr/>
        </p:nvSpPr>
        <p:spPr>
          <a:xfrm>
            <a:off x="3049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3"/>
          <a:stretch/>
        </p:blipFill>
        <p:spPr>
          <a:xfrm>
            <a:off x="380880" y="4572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0"/>
            <a:ext cx="9601200" cy="7086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MVC-005F"/>
          <p:cNvPicPr/>
          <p:nvPr/>
        </p:nvPicPr>
        <p:blipFill>
          <a:blip r:embed="rId1"/>
          <a:stretch/>
        </p:blipFill>
        <p:spPr>
          <a:xfrm>
            <a:off x="1752480" y="838080"/>
            <a:ext cx="6248520" cy="48006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2286000" y="5943600"/>
            <a:ext cx="51055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Unicode MS"/>
              </a:rPr>
              <a:t>Orang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MVC-014S"/>
          <p:cNvPicPr/>
          <p:nvPr/>
        </p:nvPicPr>
        <p:blipFill>
          <a:blip r:embed="rId2"/>
          <a:srcRect l="1252" t="10000" r="5002" b="16669"/>
          <a:stretch/>
        </p:blipFill>
        <p:spPr>
          <a:xfrm>
            <a:off x="1752480" y="838080"/>
            <a:ext cx="6248520" cy="4800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3"/>
          <a:srcRect l="2813" t="0" r="10314" b="0"/>
          <a:stretch/>
        </p:blipFill>
        <p:spPr>
          <a:xfrm>
            <a:off x="1752480" y="838080"/>
            <a:ext cx="6248520" cy="48006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7"/>
          <p:cNvSpPr/>
          <p:nvPr/>
        </p:nvSpPr>
        <p:spPr>
          <a:xfrm>
            <a:off x="3808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oranges.wav" descr=""/>
          <p:cNvPicPr/>
          <p:nvPr/>
        </p:nvPicPr>
        <p:blipFill>
          <a:blip r:embed="rId4"/>
          <a:stretch/>
        </p:blipFill>
        <p:spPr>
          <a:xfrm>
            <a:off x="457200" y="4572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9601200" cy="70866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MVC-005F"/>
          <p:cNvPicPr/>
          <p:nvPr/>
        </p:nvPicPr>
        <p:blipFill>
          <a:blip r:embed="rId1"/>
          <a:stretch/>
        </p:blipFill>
        <p:spPr>
          <a:xfrm>
            <a:off x="1752480" y="838080"/>
            <a:ext cx="6248520" cy="48006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2286000" y="5943600"/>
            <a:ext cx="51814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Unicode MS"/>
              </a:rPr>
              <a:t>Red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MVC-007S"/>
          <p:cNvPicPr/>
          <p:nvPr/>
        </p:nvPicPr>
        <p:blipFill>
          <a:blip r:embed="rId2"/>
          <a:srcRect l="5002" t="3331" r="5002" b="6669"/>
          <a:stretch/>
        </p:blipFill>
        <p:spPr>
          <a:xfrm>
            <a:off x="1752480" y="838080"/>
            <a:ext cx="6248520" cy="480060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6"/>
          <p:cNvSpPr/>
          <p:nvPr/>
        </p:nvSpPr>
        <p:spPr>
          <a:xfrm>
            <a:off x="3808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3"/>
          <a:stretch/>
        </p:blipFill>
        <p:spPr>
          <a:xfrm>
            <a:off x="380880" y="4572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5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0"/>
            <a:ext cx="9601200" cy="70866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MVC-005F"/>
          <p:cNvPicPr/>
          <p:nvPr/>
        </p:nvPicPr>
        <p:blipFill>
          <a:blip r:embed="rId1"/>
          <a:stretch/>
        </p:blipFill>
        <p:spPr>
          <a:xfrm>
            <a:off x="1752480" y="838080"/>
            <a:ext cx="6248520" cy="48006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2286000" y="5943600"/>
            <a:ext cx="48769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Unicode MS"/>
              </a:rPr>
              <a:t>Gree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MVC-015S"/>
          <p:cNvPicPr/>
          <p:nvPr/>
        </p:nvPicPr>
        <p:blipFill>
          <a:blip r:embed="rId2"/>
          <a:stretch/>
        </p:blipFill>
        <p:spPr>
          <a:xfrm>
            <a:off x="1752480" y="838080"/>
            <a:ext cx="6248520" cy="481968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6"/>
          <p:cNvSpPr/>
          <p:nvPr/>
        </p:nvSpPr>
        <p:spPr>
          <a:xfrm>
            <a:off x="3049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3"/>
          <a:stretch/>
        </p:blipFill>
        <p:spPr>
          <a:xfrm>
            <a:off x="380880" y="44956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00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19:25Z</dcterms:created>
  <dc:creator>roban31p</dc:creator>
  <dc:description/>
  <dc:language>en-US</dc:language>
  <cp:lastModifiedBy>roban31p</cp:lastModifiedBy>
  <dcterms:modified xsi:type="dcterms:W3CDTF">2008-09-11T00:20:22Z</dcterms:modified>
  <cp:revision>1</cp:revision>
  <dc:subject/>
  <dc:title>Slide 1</dc:title>
</cp:coreProperties>
</file>